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5CB0B9-CC7D-40A9-9BCF-8D34D93B7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D87E1D-8EC9-4402-97E8-8E9BB6CB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599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57240" y="1638360"/>
            <a:ext cx="51624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nor Coordination Forum  meeting, 8 December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FLOODS RECOVERY SUPPORT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943440" y="5810400"/>
            <a:ext cx="5057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Massimo Mina</a:t>
            </a:r>
            <a:br>
              <a:rPr sz="1400"/>
            </a:b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Head of Operation section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EU Delegation to Bosnia and Herzegovin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019240" y="0"/>
            <a:ext cx="712476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onors' conference in Brussels, July 2014: EUR 8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First package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EU Flood Recovery Programme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ed by UNDP – EUR 42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cond package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Special Measure on flood recove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nd flood risk management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inclu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iH allocation – EUR 41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lti-country – EUR 24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152280" y="2037960"/>
            <a:ext cx="215568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pledge for Bosnia and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ercegovina flood recovery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4.640 dwell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9 public administration faciliti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nstruction of 119 education facilitie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nstruction/rehabilitation of 6 health care facilitie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114 critical community infrastru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 Water and sanitation inter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using Risk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E and agricultural support for creation of 5.547 jo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95080"/>
            <a:ext cx="2152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Flood Recovery Programme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flood protection and water managemen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 1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ousing Interventions, EUR 12.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rengthening SME competitiveness, EUR 9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indirect management with Gi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Civil Protection, EUR 2.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Civil Society in awareness raising, advoca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nd recovery assistance to affected areas, EUR 2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947520"/>
            <a:ext cx="2254320" cy="31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Special Measure on floods in BiH</a:t>
            </a: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gional reconstruction and improvement of flo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tection infrastructure in the Sava river basin in Bi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Serbia, EUR 20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vention, preparedness and response to floods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ern Balkans and Turkey, Lot 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irect management by ECHO), EUR 4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EU Special Measure on floods – multi-country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rd call for propos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 Border Cooperation Program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H – Serb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cations 2012 and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 3.6 million in to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CBC Programme BiH - Serbi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1781280"/>
            <a:ext cx="223848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EU pledge for Bosnia and</a:t>
            </a:r>
            <a:br>
              <a:rPr sz="18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Hercegovina flood recovery 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Massimo MINA</cp:lastModifiedBy>
  <dcterms:modified xsi:type="dcterms:W3CDTF">2015-12-08T07:14:20Z</dcterms:modified>
  <cp:revision>859</cp:revision>
  <dc:subject/>
  <dc:title>Folie 1</dc:title>
</cp:coreProperties>
</file>